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564-BDF8-459D-9B0E-32BABE09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28C-F3A8-47D5-8E14-0F5F95D4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E6F-99E2-4E92-9870-83C0ECBD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926-90B7-4385-B509-AF976681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F59-FFAD-4EE3-8B05-F66F5B35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98E-5363-4337-A99B-0C60E09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6E7-A9F1-4D45-8C49-EECF27CB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BBA-3079-4E38-9098-D79DFFF5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66C-EA82-445D-AD1F-5D2BDDE8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C8B-7B73-4A72-8548-B344395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066-2E69-4D11-93BC-D661BD0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729-D737-4386-A0D1-FB4D3A4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CB9A-867D-44EB-826C-23DCEB055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irMdITC TT-Medium"/>
              </a:rPr>
              <a:t>Run…..Run……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lways wanted to know why taller people run faster than shorter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dict that the taller person will run faster than the shorter people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m run 2 with a distance 40 yards, time them. Write the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 practic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4255920" cy="26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42559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38080" y="48769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right and wrong it was the average height that was the fas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086000">
            <a:off x="685440" y="39434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0287200">
            <a:off x="5105520" y="3962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264800">
            <a:off x="5562720" y="83772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19867200">
            <a:off x="533160" y="83772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8:44Z</dcterms:created>
  <dc:creator>Sterling JrHi</dc:creator>
  <dc:description/>
  <dc:language>en-US</dc:language>
  <cp:lastModifiedBy>STERLING  USD376</cp:lastModifiedBy>
  <dcterms:modified xsi:type="dcterms:W3CDTF">2010-03-01T20:07:58Z</dcterms:modified>
  <cp:revision>4</cp:revision>
  <dc:subject/>
  <dc:title>Run…..Run……RUN</dc:title>
</cp:coreProperties>
</file>